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5CE-28DF-4719-A5DB-C6193AF6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0566-2172-4FC2-95CD-332C2F24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405-8A91-4D0F-9FC5-C548E3F3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628-1A6D-44CC-8D11-382DD824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66D-C2C7-4090-972B-85A3D36F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4AF-7AE5-461E-907F-79AAB15F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B13-6A40-45B2-A725-38CBD3E8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AF3B-179E-4254-9361-1BF1742E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061-9F86-4528-ACE5-96C45E42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F42-7738-4036-B31C-F710AB39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E7E0-4B62-47BE-8553-3FED1AB5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2710-141D-4DB9-AD59-57BECE8E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B85B-5F93-40E7-9301-DEB4B60D3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1066680"/>
            <a:ext cx="49528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B-17 Bomber Pilo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000"/>
                </a:solidFill>
                <a:latin typeface="Calibri"/>
              </a:rPr>
              <a:t>Nick LeMas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000"/>
                </a:solidFill>
                <a:latin typeface="Calibri"/>
              </a:rPr>
              <a:t>Kyle Kalanis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000"/>
                </a:solidFill>
                <a:latin typeface="Calibri"/>
              </a:rPr>
              <a:t>Kyle Lew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000"/>
                </a:solidFill>
                <a:latin typeface="Calibri"/>
              </a:rPr>
              <a:t>Deman C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M35-Luftwaffe-DD-Snakeleg_decal.jpg"/>
          <p:cNvPicPr/>
          <p:nvPr/>
        </p:nvPicPr>
        <p:blipFill>
          <a:blip r:embed="rId2"/>
          <a:stretch/>
        </p:blipFill>
        <p:spPr>
          <a:xfrm>
            <a:off x="4572000" y="2332080"/>
            <a:ext cx="45720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Luftwaffe.jpg"/>
          <p:cNvPicPr/>
          <p:nvPr/>
        </p:nvPicPr>
        <p:blipFill>
          <a:blip r:embed="rId3"/>
          <a:stretch/>
        </p:blipFill>
        <p:spPr>
          <a:xfrm>
            <a:off x="-228600" y="2362320"/>
            <a:ext cx="4900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51:32Z</dcterms:created>
  <dc:creator>Information Technology</dc:creator>
  <dc:description/>
  <dc:language>en-US</dc:language>
  <cp:lastModifiedBy>Information Technology</cp:lastModifiedBy>
  <dcterms:modified xsi:type="dcterms:W3CDTF">2010-02-16T19:05:34Z</dcterms:modified>
  <cp:revision>6</cp:revision>
  <dc:subject/>
  <dc:title>B-17 Bomber Pilot </dc:title>
</cp:coreProperties>
</file>